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3827-0949-40DD-B4EF-CF8F6022B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6159-6EA6-404B-9B7B-CEE4E1566660}" type="slidenum">
              <a:rPr b="0" lang="en-US" sz="1200" spc="-1" strike="noStrike">
                <a:solidFill>
                  <a:srgbClr val="00336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559C-EB33-4F8A-A83F-BCB95E8E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6530-A42E-4A8D-86CB-34A0C5D9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0B7-0EC1-40F8-9906-3746529A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152-2E79-4CC8-ADE8-6671B3D0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43EA-F83C-4F24-9728-75706727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68F6-7927-4018-9234-2F69B47B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2F03-E7BD-4479-8F30-5B516CD3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D812-2D47-4667-9264-BE65AD21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EC90-DC44-4736-90CD-2F16CEF1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3F93-398E-4911-A5C7-703A7174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4F27-CE59-4154-A59D-33503CBB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C82-3DDA-4BC0-AA35-08917C7A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7C3D-7A98-439A-A2BC-148C60F3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026E-8D00-4B1B-9835-967E1872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9689-3308-49C1-8BEC-250BA744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9C2B-2AA3-43D3-ADBF-98E1FAF6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6BA3-1930-409A-996B-A1005C90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E9A1-0270-4B85-8431-B61DDDB0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86D-F286-4075-AC45-1D5BFE9B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CB3-347E-40F4-BEB5-019A112A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CF0-6000-4CF5-B320-73009E06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64B8-2984-4F91-92B7-852D4AFF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A25-F211-4528-927D-E720B873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F64-1AB1-44DB-BD8A-FCE516F4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8381-4A16-499E-BD1A-5B0CD5C589B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1D96-F4E2-4C99-B958-7C053D2E073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 Sociolinguistic Aspects of Students’ Question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glish 384/58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uly 26, 201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previousslide"/>
          </p:cNvPr>
          <p:cNvSpPr/>
          <p:nvPr/>
        </p:nvSpPr>
        <p:spPr>
          <a:xfrm>
            <a:off x="22860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endshow"/>
          </p:cNvPr>
          <p:cNvSpPr/>
          <p:nvPr/>
        </p:nvSpPr>
        <p:spPr>
          <a:xfrm>
            <a:off x="22860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udent Passivity - Classroom Fact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863960" y="2438280"/>
            <a:ext cx="390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eacher domin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eer pressu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ypes of activi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lf-confid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nsure how to ask good ques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49240" y="2214720"/>
            <a:ext cx="3822840" cy="3881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ardhaugh’s Speech Ac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09640" y="3352680"/>
            <a:ext cx="7958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functional approach of sentence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onald Wardhaugh, professor emeritu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versity of Toron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Talk and A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 Introduction to Sociolinguistics (2006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ccording to Wardhaugh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versations not only make statements, they perform actions in the worl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stablish friendship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hieve cooper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reate a foundation for future interac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n example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tative utterances:  “I had a busy day today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nnected with events or happening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thical propositions:  “Thou shalt not kill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rve as guidelines to behavior in some world or anoth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 our purpose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Performative utterance:  “I do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ot only saying but doing something if certain real-world conditions are me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ustin’s Five categories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erformativ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erdic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iving a verdict, estimate, grade, or apprais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99960" indent="-207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uilty as charged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299960" indent="-207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You got an A on your test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erci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ercising of powers, rights, or influ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99960" indent="-207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pronounce you husband and wife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299960" indent="-207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ngratulations!  You have just graduated from college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miss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omising or undertaking, announcing an inten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hereby bequeath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intent to teach the best way I know how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ehabi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ologizing, congratulating, blessing, cursing, or challeng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apologize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challenge you to learn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positiv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fers to how one fits an utterance into an argument or exposi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argue, I reply, I assume…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 argue in favor of my learning outcomes.”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nd so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A speech act…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In some way changes the conditions that exist in the world.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For example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I sentence you to five years in jail.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I sentence you to two hours of detention.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Hello.  How are you?”  (friendly)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</a:rPr>
              <a:t>You jerk!”  (not so friendly)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 the Group Me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ae Tha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ary Education Maj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sae" descr=""/>
          <p:cNvPicPr/>
          <p:nvPr/>
        </p:nvPicPr>
        <p:blipFill>
          <a:blip r:embed="rId1"/>
          <a:stretch/>
        </p:blipFill>
        <p:spPr>
          <a:xfrm>
            <a:off x="1363680" y="2214720"/>
            <a:ext cx="2792520" cy="3881160"/>
          </a:xfrm>
          <a:prstGeom prst="rect">
            <a:avLst/>
          </a:prstGeom>
          <a:ln w="0">
            <a:noFill/>
          </a:ln>
        </p:spPr>
      </p:pic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ue/Fal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 speech act is neither true nor false in itsel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wever, these claims may be made about its having been don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y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ymes' components of a speech event (mnemonic version):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tting- scene situation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articipants- Speaker, Receiver, other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ds- outcomes and goals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ct sequences- form and content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Key- manner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strumentalities- Channel, code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orms- of behavior and interpretation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enre- style, e.g. lecture, ch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ardhaugh says…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809640" y="243828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nce we begin to look at utterances from the point of view of what they do, it is possible to see every utterance as a speech act of one kind or other, that is, as having some functional value which might be quite independent of the actual words used and their grammatical arrangement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aver and Trudgill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ing a listener to speech is not unlike being a detective.  The listener…has to construct, from an assortment of clues, the affective state of the speaker and a profile of his identity.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munication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8" name="Content Placeholder 5" descr="A Communication Model"/>
          <p:cNvPicPr/>
          <p:nvPr/>
        </p:nvPicPr>
        <p:blipFill>
          <a:blip r:embed="rId1"/>
          <a:stretch/>
        </p:blipFill>
        <p:spPr>
          <a:xfrm>
            <a:off x="1219320" y="2286000"/>
            <a:ext cx="74674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09640" y="3200040"/>
            <a:ext cx="7958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ll the world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a stage, and we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the players!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ardhaug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ic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863960" y="2590920"/>
            <a:ext cx="39038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Critical Think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f good thinkers are good questioners then are good questioners good thinkers?” (King, 13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Times New Roman"/>
              </a:rPr>
              <a:t>Inspiring Student Inquiry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3" name="Picture 2" descr="ridller.jpg image by brigante133"/>
          <p:cNvPicPr/>
          <p:nvPr/>
        </p:nvPicPr>
        <p:blipFill>
          <a:blip r:embed="rId1"/>
          <a:stretch/>
        </p:blipFill>
        <p:spPr>
          <a:xfrm>
            <a:off x="1436760" y="2214720"/>
            <a:ext cx="2646360" cy="3881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Critical Think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800" y="2590560"/>
            <a:ext cx="79581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 is Critical Thinking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"Critical thinking is the intellectually disciplined process of actively and skillfully conceptualizing, applying, analyzing, synthesizing, and/or evaluating information gathered from, or generated by, observation, experience, reflection, reasoning, or communication, as a guide to belief and action“ (Scriven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Critical Think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09640" y="2214360"/>
            <a:ext cx="81057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keptical but open-minded              Looks at different points of view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Values fair-mindedness                    Respects evidence &amp; reason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espects clarity &amp; precision             Will change positions when reasoning             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leads them to    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8" name="Picture 4" descr="http://www.bigcheesebadges.com/images/the_riddler.png"/>
          <p:cNvPicPr/>
          <p:nvPr/>
        </p:nvPicPr>
        <p:blipFill>
          <a:blip r:embed="rId1"/>
          <a:stretch/>
        </p:blipFill>
        <p:spPr>
          <a:xfrm>
            <a:off x="4495680" y="441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http://www.bigcheesebadges.com/images/the_riddler.png"/>
          <p:cNvPicPr/>
          <p:nvPr/>
        </p:nvPicPr>
        <p:blipFill>
          <a:blip r:embed="rId2"/>
          <a:stretch/>
        </p:blipFill>
        <p:spPr>
          <a:xfrm>
            <a:off x="838080" y="441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http://www.bigcheesebadges.com/images/the_riddler.png"/>
          <p:cNvPicPr/>
          <p:nvPr/>
        </p:nvPicPr>
        <p:blipFill>
          <a:blip r:embed="rId3"/>
          <a:stretch/>
        </p:blipFill>
        <p:spPr>
          <a:xfrm>
            <a:off x="4495680" y="3733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http://www.bigcheesebadges.com/images/the_riddler.png"/>
          <p:cNvPicPr/>
          <p:nvPr/>
        </p:nvPicPr>
        <p:blipFill>
          <a:blip r:embed="rId4"/>
          <a:stretch/>
        </p:blipFill>
        <p:spPr>
          <a:xfrm>
            <a:off x="83808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bigcheesebadges.com/images/the_riddler.png"/>
          <p:cNvPicPr/>
          <p:nvPr/>
        </p:nvPicPr>
        <p:blipFill>
          <a:blip r:embed="rId5"/>
          <a:stretch/>
        </p:blipFill>
        <p:spPr>
          <a:xfrm>
            <a:off x="449568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http://www.bigcheesebadges.com/images/the_riddler.png"/>
          <p:cNvPicPr/>
          <p:nvPr/>
        </p:nvPicPr>
        <p:blipFill>
          <a:blip r:embed="rId6"/>
          <a:stretch/>
        </p:blipFill>
        <p:spPr>
          <a:xfrm>
            <a:off x="838080" y="3733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to Build Your Own Critical Thinke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09640" y="2666520"/>
            <a:ext cx="7958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aching How to Ask Ques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Question Stems (refer to handout)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mantics &amp; Synta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ateg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eciprocal Peer Question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eader’s Question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nference-Style Learn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6" name="Picture 2" descr="http://www.orchardpropertyservices.co.uk/uploads/images/Self%20Build%20House.jpg"/>
          <p:cNvPicPr/>
          <p:nvPr/>
        </p:nvPicPr>
        <p:blipFill>
          <a:blip r:embed="rId1"/>
          <a:stretch/>
        </p:blipFill>
        <p:spPr>
          <a:xfrm>
            <a:off x="5943600" y="3276720"/>
            <a:ext cx="2362320" cy="29494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 the Group Me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ike Slowinsk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ary Education Maj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809280" y="2214360"/>
            <a:ext cx="3902040" cy="3881160"/>
          </a:xfrm>
          <a:prstGeom prst="rect">
            <a:avLst/>
          </a:prstGeom>
          <a:ln w="0">
            <a:noFill/>
          </a:ln>
        </p:spPr>
      </p:pic>
      <p:sp>
        <p:nvSpPr>
          <p:cNvPr id="309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ing Student Inqui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809640" y="2285640"/>
            <a:ext cx="795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operative Learn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Higher achievement &amp; greater productivit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ore caring, supportive &amp; committed relationship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reater psychological health, social competence &amp; self-estee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Kagan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9" name="Picture 4" descr="http://learningandteaching.dal.ca/taguide/Image51.gif"/>
          <p:cNvPicPr/>
          <p:nvPr/>
        </p:nvPicPr>
        <p:blipFill>
          <a:blip r:embed="rId1"/>
          <a:stretch/>
        </p:blipFill>
        <p:spPr>
          <a:xfrm>
            <a:off x="5105520" y="4419720"/>
            <a:ext cx="2971800" cy="1636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C:\Users\Kathy\AppData\Local\Microsoft\Windows\Temporary Internet Files\Content.IE5\X2G90D1U\MC900312146[1].wmf"/>
          <p:cNvPicPr/>
          <p:nvPr/>
        </p:nvPicPr>
        <p:blipFill>
          <a:blip r:embed="rId2"/>
          <a:stretch/>
        </p:blipFill>
        <p:spPr>
          <a:xfrm>
            <a:off x="1143000" y="3352680"/>
            <a:ext cx="565200" cy="358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C:\Users\Kathy\AppData\Local\Microsoft\Windows\Temporary Internet Files\Content.IE5\X2G90D1U\MC900312146[1].wmf"/>
          <p:cNvPicPr/>
          <p:nvPr/>
        </p:nvPicPr>
        <p:blipFill>
          <a:blip r:embed="rId3"/>
          <a:stretch/>
        </p:blipFill>
        <p:spPr>
          <a:xfrm>
            <a:off x="1143000" y="2971800"/>
            <a:ext cx="565200" cy="358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C:\Users\Kathy\AppData\Local\Microsoft\Windows\Temporary Internet Files\Content.IE5\X2G90D1U\MC900312146[1].wmf"/>
          <p:cNvPicPr/>
          <p:nvPr/>
        </p:nvPicPr>
        <p:blipFill>
          <a:blip r:embed="rId4"/>
          <a:stretch/>
        </p:blipFill>
        <p:spPr>
          <a:xfrm>
            <a:off x="1143000" y="3733920"/>
            <a:ext cx="565200" cy="358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Kagan, Spencer.  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Cooperative Learning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.  San Clemente: Kagan Publishing, 1994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King, Allison.  “Designing the Instructional Process to Enhance Critical Thinking Across the Curriculum.”  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Teaching of Psychology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22 (1995): 13-17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criven, Michael and Richard Paul.  “Defining Critical Thinking: A Draft Statement for the National Council for Excellence in Critical Thinking.” (1996) Available  &lt;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http://www.criticalthinking.org/University/univlibrary/library.nclk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 &gt;  (21 July 2010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Underwood, Marion K. and Rebecca L. Wald. “Conference-Style Learning: A Method for Fostering Critical Thinking with Heart.” 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Teaching of Psychology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22 (1995): 17-21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Times New Roman"/>
              </a:rPr>
              <a:t> http://www.harding.edu/dlee/bloom.pdf</a:t>
            </a: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gt; (21 July 2010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ork Ci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ardhaugh, R. (2008)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An Introduction to Sociolinguistic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, 5th Edition, Blackwell Publishing, 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Ciardiello, Angelo. “Did You Ask a Good Question Today? Alternative Cognitive and Metacognitive Strategies.”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Times New Roman"/>
              </a:rPr>
              <a:t>Journal of Adolescent and Adult Literacy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. 42.3 (Nov. 1998): 210-220.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Times New Roman"/>
              </a:rPr>
              <a:t>EBSCOhost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. Polk Library, UW-Oshkosh, Oshkosh, WI. 23 July 2010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Good, Thomas, Ricky Slavings, Kathleen Hobson Harel, and Hugh Emerson. “Student Passivity: A Study of Question Asking in K-12 Classrooms.”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Times New Roman"/>
              </a:rPr>
              <a:t>Sociology of Education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. 60 (July 1987): 181-199. </a:t>
            </a:r>
            <a:r>
              <a:rPr b="0" lang="en-US" sz="1600" spc="-1" strike="noStrike" u="sng">
                <a:solidFill>
                  <a:srgbClr val="003366"/>
                </a:solidFill>
                <a:uFillTx/>
                <a:latin typeface="Times New Roman"/>
              </a:rPr>
              <a:t>EBSCOhost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. Polk Library, UW-Oshkosh, Oshkosh, WI. 23 July 2010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 the Group Me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809280" y="2214360"/>
            <a:ext cx="3900600" cy="38811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orothy Seehause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ary Education Maj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 the Group Me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09280" y="2214360"/>
            <a:ext cx="3900600" cy="38811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Kathy Reco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ary Education Maj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y do students ask so many question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1295640" cy="1268280"/>
          </a:xfrm>
          <a:prstGeom prst="rect">
            <a:avLst/>
          </a:prstGeom>
          <a:ln w="0">
            <a:noFill/>
          </a:ln>
        </p:spPr>
      </p:pic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sentation Pre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at’s happening in the classroom (Mike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plain Linguistically (Dorothy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pplication and Strategies(Kathy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>
            <a:hlinkClick r:id="" action="ppaction://hlinkshowjump?jump=previousslide"/>
          </p:cNvPr>
          <p:cNvSpPr/>
          <p:nvPr/>
        </p:nvSpPr>
        <p:spPr>
          <a:xfrm>
            <a:off x="15228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endshow"/>
          </p:cNvPr>
          <p:cNvSpPr/>
          <p:nvPr/>
        </p:nvSpPr>
        <p:spPr>
          <a:xfrm>
            <a:off x="15228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udent Ques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95280" y="56383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hat’s happening in the classroom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60199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udent Passiv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863960" y="2437920"/>
            <a:ext cx="3903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udents Not Asking Ques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lectronic  Vs. Face-to-Fa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omas Good’s Passivity Mod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ocedural Questions Instead of Conceptu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09640" y="2286000"/>
            <a:ext cx="390204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ua</cp:lastModifiedBy>
  <dcterms:modified xsi:type="dcterms:W3CDTF">2010-07-23T22:20:32Z</dcterms:modified>
  <cp:revision>4</cp:revision>
  <dc:subject/>
  <dc:title>The Sociolinguistic Aspects of Students’ Questioning</dc:title>
</cp:coreProperties>
</file>